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FBC-283C-4B24-A7FE-E5ECC767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07C-F9A9-4463-942D-785D6DD0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2BC-EFDC-42F9-8A77-4556CDB8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A5D-3A46-4CAC-B13F-2E7759B1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3218-45CA-482A-BC7C-44F10259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3492-E130-449F-8691-F47E63C0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303C-187B-4EB5-84F5-70089738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16F3-A67B-4500-901D-EC1623C4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9674-46E6-428A-8001-57ADEDC6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F40F-693B-49DC-A898-CC731DEB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7C74-A648-4FB3-93D5-9E6A3A2B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322-1B4E-459C-A900-D500F7DB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CE59-E106-43D3-9883-E6C00442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120D-E1CD-4035-9182-A738BB41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039B-D03F-4779-900A-0EBF2EE3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C51A-7B00-4365-99F1-B05C3634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F654-A51E-4732-9DE0-2C6DC09D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86C-F456-4AFF-A31A-BDB9797C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254-83B4-479F-AA58-9D9A4B0B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D5E-9EF7-4572-8BD0-AAF6CEE7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AE2-5D22-4B6F-A4A4-B2A4002D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435-985F-4DD0-A162-0F24E5C2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B71-2965-44D8-A048-CA3B0082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F2C-EB63-4E96-BDA9-48DA8F58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887F-1543-4995-97A7-63B3F8B01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8624-D538-4627-AAAE-3E0E976EA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ip, Hip Hooray Vocabulary</a:t>
            </a:r>
            <a:br>
              <a:rPr sz="4400"/>
            </a:br>
            <a:r>
              <a:rPr b="0" lang="en-US" sz="1800" spc="-1" strike="noStrike">
                <a:solidFill>
                  <a:srgbClr val="181848"/>
                </a:solidFill>
                <a:latin typeface="Times New Roman"/>
              </a:rPr>
              <a:t>Introducing vocabulary idea, from Mentoring Minds</a:t>
            </a:r>
            <a:endParaRPr b="0" lang="en-US" sz="18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out a cheer while spelling and saying the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ip, Hip Hooray Vocabulary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new vocabulary word up for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ay the word a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wing hips from one side to the other while saying the letters in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hrow their hands in the air and say the word again, then shout HOOR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5:34:16Z</dcterms:created>
  <dc:creator>Ann Weeks</dc:creator>
  <dc:description/>
  <dc:language>en-US</dc:language>
  <cp:lastModifiedBy>Ann Weeks</cp:lastModifiedBy>
  <dcterms:modified xsi:type="dcterms:W3CDTF">2008-06-29T15:47:40Z</dcterms:modified>
  <cp:revision>6</cp:revision>
  <dc:subject/>
  <dc:title>Basket Ball Vocabulary Introducing vocabulary idea, from Mentoring Minds</dc:title>
</cp:coreProperties>
</file>